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13D08-F00D-46D4-8757-B3849D275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94636-B6DA-4EAA-9C6A-F511D95DE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CED62-20D9-439A-B635-768BE01F0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CA28B-E5D5-4249-8CA6-358E6A6E5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CB0D6-F632-4D81-8743-96B9AEFA6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3856B-6B53-4A64-998A-25B5F35B7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D16D2-3082-43E5-84C7-80F0A0A6A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28670-A5F3-46A5-8C26-F66E4DA8F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064A4-F4D7-4516-8CEA-74D1F0B17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57C43-3AC3-435D-BB78-67547E4E3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AF319-8BB6-413F-B1A9-0B17961FD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68AD4-7AE7-45DF-ADB3-918B9B259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5F38-9AF4-4255-828C-5607F3D2F7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4191120" y="4800600"/>
            <a:ext cx="3771720" cy="11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Sesiunea iunie-iulie</a:t>
            </a:r>
            <a:endParaRPr b="0" lang="en-US" sz="2800" spc="1" strike="noStrike">
              <a:ln w="9360">
                <a:solidFill>
                  <a:srgbClr val="000000"/>
                </a:solidFill>
                <a:miter/>
              </a:ln>
              <a:solidFill>
                <a:srgbClr val="000000"/>
              </a:solidFill>
              <a:latin typeface="Arial Black"/>
              <a:ea typeface="Arial Black"/>
            </a:endParaRPr>
          </a:p>
        </p:txBody>
      </p:sp>
    </p:spTree>
  </p:cSld>
  <p:transition advTm="5000">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33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7"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8" name="Picture 12" descr="comp_i"/>
          <p:cNvPicPr/>
          <p:nvPr/>
        </p:nvPicPr>
        <p:blipFill>
          <a:blip r:embed="rId1"/>
          <a:stretch/>
        </p:blipFill>
        <p:spPr>
          <a:xfrm>
            <a:off x="5867280" y="1828800"/>
            <a:ext cx="2847960" cy="2847960"/>
          </a:xfrm>
          <a:prstGeom prst="rect">
            <a:avLst/>
          </a:prstGeom>
          <a:ln w="0">
            <a:noFill/>
          </a:ln>
        </p:spPr>
      </p:pic>
    </p:spTree>
  </p:cSld>
  <p:transition advTm="5000">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transition advTm="5000">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10a3</cp:lastModifiedBy>
  <dcterms:modified xsi:type="dcterms:W3CDTF">2012-06-18T10:58:35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